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A1B-4F5B-43A8-B758-578AF35CE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mmybear.com/demo.htm ( Cooper + nitric acid demo instruc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EAAC-3FAB-4B4C-89BE-79B3BD41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72B-9258-4E74-AF9C-5EBF7C30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38F-6F5A-41B6-B816-2DBE50C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259-4266-4123-872F-302565C4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A8C-FB1D-431D-8FF3-B56DF3BC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ABB5-C91D-41B0-9947-825EF380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990-7AF0-4FB2-AE55-2CFAE78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B3B-01F5-4430-AC1B-196F9AE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98AA-E8EC-41F1-95F6-B450E04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06B-7139-43A6-AC74-712CDD9E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4930-3308-4B40-AFD2-053768B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3667-46F1-4B83-A55F-D2B307A4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927-056E-4DAB-B2CA-E3A5E412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4A09-F226-45F1-BE62-7A4D525A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B7F5-54A1-4906-BFD1-A8AF7FB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619B-5992-4E23-BBC0-7093D04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F2D4-4380-4032-886D-B962C467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9F67-E4CC-478C-B186-0ABF70C7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E604-007E-42E8-9C0B-8491CAE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DF08-0386-456F-9019-2BCD1E2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3F50-3B35-4309-960C-6FE4620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4AB5-3F77-4AE6-B8A7-3847891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051B-A760-443F-AC62-C71CABA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B44-31E1-4103-ABF8-8846134F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4764-8590-4906-917B-FFF5FFD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EACC-2AE4-491E-9B46-C232C2B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8C97-9DF5-4FDC-8E42-FDAB5ED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B9AC-B280-47C4-AF3D-74C63B7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3567-46E6-4235-ACE3-C07E9E33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91EE-B1CA-4D63-8EED-AEBE7E24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6C37-EA54-4B94-BE52-E7ACA2B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ACAC-2A61-480A-9AE0-F61E92CC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12E3-D5B4-45D7-9B58-200C9ED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03F2-9677-4AF7-A760-59496FC2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B10-C9C6-46AD-BF77-50548816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F4D9-24B3-423E-8164-1C60E3EE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C6A1-3447-4254-9955-5E5AB294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83F6-6E03-4197-AB34-3201D650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3001-894F-48DE-A43D-CC7A5A4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8C57-B733-4089-9264-4495EC5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9773-5E66-43F5-AEFD-116496F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BFC7-7318-4281-8C8A-C38EFD8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EA5C-FF98-445A-8834-D5D62FD3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1B23-94FC-45C8-98C9-11ED36AA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DA1F-37D8-4BC3-AB6C-D490A81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0C9-70C9-4D8C-81A5-5B27AEF1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2042-BFBE-43FB-A64B-FE643DB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1CE0-78AA-403A-B04F-D811572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D398-A11E-4D42-8FFE-0E978C1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4E4C-7BF7-4210-AD72-3980CF2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5756-BD35-48D8-9AFB-8552E7C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D266-3688-4E35-8C3F-4EE9ABF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5B87-4906-4148-B0F4-F587353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2ECC-875A-4E3F-B6E4-87C6B85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27E4-B8DF-4548-AD2F-B844A6B2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692E-02C7-4A60-8130-919D1373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510-50E7-4D34-AE7F-BB96476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9085-2CF5-4802-837F-EEFC9F4D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9083C-82BB-46C5-8119-41C334C3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5C1E7-CE3A-4E65-868B-3F785A3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82068-466F-4567-99BB-10EF146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EEFEF-8DE9-4EB4-9A15-1DF473BB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704B3-E98F-4A07-8863-99C4BA2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4E7DA-6A31-4E37-8D56-ED817623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2F0BF-A945-476E-9635-0CE0BCF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D558C-633E-4C80-9D19-7531F8E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3C820-5941-4B8D-8B56-596FCD1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0C0-14A0-4AAB-894A-D9234FC8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7AFDC-2E16-430E-AB0D-1182192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A2EF0-8134-4979-970A-C888034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35BBC-F978-4A11-AFC8-07E29FC5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B628D-0213-4E0E-8F42-A1351818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3E128-93E1-4DC4-8ADB-0F62A2A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BA77A-488D-4229-907B-439EA7D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2B1E-3363-4C4A-AB28-A9A9009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94E79-01FC-4F10-8210-DD5A4C8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21986-C4EB-4649-AD88-87A7F80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CBC5-531D-4973-BFEB-CD0F328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1DB-3898-4569-B317-7757271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FE2A-0A6A-4C8B-AAEB-B610CF5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257A-E6C9-4D90-8589-6CD7254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62A8-9402-4BDD-85E9-BC01D07C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BF512-D732-4E5E-9866-1C6D0205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783AC-6E0E-4819-8D20-0973C28C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D93-C344-44FC-BB81-DAD94EE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6FB5-1F80-4F5B-BB96-D9947BAD5EDF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7f8fa9">
              <a:alpha val="70000"/>
            </a:srgbClr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34f7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9F5E-E66F-401D-8F28-6431A0F99785}" type="slidenum">
              <a:rPr b="0" lang="en-US" sz="2800" spc="-1" strike="noStrike">
                <a:solidFill>
                  <a:srgbClr val="234f77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C48-D47D-4AA0-96F2-31A62719B470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6AE3-4EB2-49F6-B300-871F15FB9E6E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D3AE-2CBF-427F-AD7A-724191016DC6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775-8585-405B-B05B-F79969206B89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1D9-261B-45CE-B685-AA2930A493D1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HtNCdz8X3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n_pOYGM5zg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77"/>
                </a:solidFill>
                <a:latin typeface="Book Antiqua"/>
              </a:rPr>
              <a:t>Types of Chemical Reactions 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0_quiz_thermite"/>
          <p:cNvPicPr/>
          <p:nvPr/>
        </p:nvPicPr>
        <p:blipFill>
          <a:blip r:embed="rId1"/>
          <a:stretch/>
        </p:blipFill>
        <p:spPr>
          <a:xfrm>
            <a:off x="1905120" y="2476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7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Example: Thermite Reaction </a:t>
            </a:r>
            <a:br>
              <a:rPr sz="3200"/>
            </a:b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2 Al + Fe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O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477b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 Al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O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 + 2 Fe</a:t>
            </a:r>
            <a:endParaRPr b="0" lang="en-US" sz="32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NaBr (aq) + 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(g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NaCl (aq) + Br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s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a    +    Al(N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)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K    +     Na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Double Replacement</a:t>
            </a:r>
            <a:br>
              <a:rPr sz="3600"/>
            </a:b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(Double Displacement)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B + CD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D + C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Double Replacement Reaction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ccur in aqueous solution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r a DR reaction to occur one of the following must happen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precipitate is formed (an insoluble or slightly soluble solid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molecular compound (usually water is formed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gas is formed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77b2"/>
                </a:solidFill>
                <a:latin typeface="Book Antiqua"/>
              </a:rPr>
              <a:t>Example: Production of a Precipitate</a:t>
            </a:r>
            <a:br>
              <a:rPr sz="3200"/>
            </a:br>
            <a:r>
              <a:rPr b="0" lang="en-US" sz="3200" spc="-1" strike="noStrike">
                <a:solidFill>
                  <a:srgbClr val="3477b2"/>
                </a:solidFill>
                <a:latin typeface="Book Antiqua"/>
              </a:rPr>
              <a:t>     Silver Nitrate + Sodium Chloride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Precipitat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gCl (s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70" name="Picture 7" descr="proc6"/>
          <p:cNvPicPr/>
          <p:nvPr/>
        </p:nvPicPr>
        <p:blipFill>
          <a:blip r:embed="rId1"/>
          <a:stretch/>
        </p:blipFill>
        <p:spPr>
          <a:xfrm>
            <a:off x="5029200" y="2590920"/>
            <a:ext cx="390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Solubility Rule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e the reference chart behind your periodic tabl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: Production of H</a:t>
            </a:r>
            <a:r>
              <a:rPr b="0" lang="en-US" sz="3500" spc="-1" strike="noStrike" baseline="-25000">
                <a:solidFill>
                  <a:srgbClr val="3477b2"/>
                </a:solidFill>
                <a:latin typeface="Book Antiqua"/>
              </a:rPr>
              <a:t>2</a:t>
            </a: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O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2NaOH(aq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(l) +Na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3 Ways to Write Equations Involving Reactions in Solutions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Formula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: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Cl(aq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Zn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 + 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Complete Ionic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2Cl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-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 2Cl 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-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 + 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Net Ionic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Zn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Note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pectator ions are ions that do not undergo chemical change during the reaction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In a net ionic equation the charge and the atoms must balanc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"/>
          <p:cNvSpPr/>
          <p:nvPr/>
        </p:nvSpPr>
        <p:spPr>
          <a:xfrm>
            <a:off x="2057400" y="609480"/>
            <a:ext cx="6400800" cy="6426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24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omposi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Decomposi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ngle Replacement (Displacement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Double Replacement (Displacement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ombus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454c3"/>
                </a:solidFill>
                <a:uFillTx/>
                <a:latin typeface="Book Antiqua"/>
                <a:hlinkClick r:id="rId1"/>
              </a:rPr>
              <a:t>Composition_x000b_(Combination, Synthesis)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wo or more substances combine to form a single substanc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General equation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+ B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Na + 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NaC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omposition Reaction Practice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and Oxygen combine to yield ________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   + ________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Oxide and Water combine to yield Magnesium Hydroxid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_____  +   ____________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61640" cy="10396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454c3"/>
                </a:solidFill>
                <a:uFillTx/>
                <a:latin typeface="Book Antiqua"/>
                <a:hlinkClick r:id="rId1"/>
              </a:rPr>
              <a:t>Decomposition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compound is broken into two or more products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General equation: Frequently requires Energy input…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B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 + 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+ 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This requires the input of electricity!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This process is called electrolysi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48" name="Picture 4" descr="im35 water decomposed"/>
          <p:cNvPicPr/>
          <p:nvPr/>
        </p:nvPicPr>
        <p:blipFill>
          <a:blip r:embed="rId2"/>
          <a:stretch/>
        </p:blipFill>
        <p:spPr>
          <a:xfrm>
            <a:off x="4191120" y="3092400"/>
            <a:ext cx="49528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s: 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Nitrogen triiodide decomposes to form nitrogen gas and iodin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KCl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___________ + 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Hydroxide decomposes to form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__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___  + _____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Single Replacement 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more active element takes the place of another element in a compound and sets the less active one fre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Basic form: A  +  BX  → AX  +  B 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or  AX  +  Y  →    AY + X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What’s the difference between these two examples?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Activity Serie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852"/>
                </a:solidFill>
                <a:latin typeface="Century Gothic"/>
              </a:rPr>
              <a:t>For an element to replace another the lone element must be more active than the element it is replacing in the substance.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55" name="Content Placeholder 6" descr="eactivity series of metals"/>
          <p:cNvPicPr/>
          <p:nvPr/>
        </p:nvPicPr>
        <p:blipFill>
          <a:blip r:embed="rId1"/>
          <a:srcRect l="0" t="12795" r="0" b="12795"/>
          <a:stretch/>
        </p:blipFill>
        <p:spPr>
          <a:xfrm>
            <a:off x="4648320" y="17524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3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4800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52280" y="0"/>
            <a:ext cx="8686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inc is added to hydrochloric acid  to produce a new compound and a 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   + ____________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_ + 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, GALLAGHER</cp:lastModifiedBy>
  <dcterms:modified xsi:type="dcterms:W3CDTF">2013-01-10T19:2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